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6B95-E7DE-4B01-B661-ADE30D1AD03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CD31-DDBE-465F-A23A-1CA8F4F553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4E55-837D-4857-9E33-E32B6C96AC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CA38-1ED3-4435-A8DF-F5C67E3D45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21A-BE5F-4CD4-8884-0E0C1216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208-AAD8-47DB-8E91-3E24E192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719-F4D7-4116-9EA3-CEA07785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AAF-8621-4E1F-90EC-44B297E2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F856-E7D8-4E68-B574-AED8E501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DC0-B9DE-422A-AFD0-7EFB15C1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824C-D2A9-4156-ABCB-5A3CBEB7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D8CB-B1FF-4AF4-963B-0D9F4347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C5C0-D91C-4E65-A220-36416B81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6C2-6A96-465B-941F-27D6A7F1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B374-2E1D-4B38-8958-4734B47B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BFA-D505-41E0-9DE1-96C05332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13B4-7C14-429D-A76B-3CEA33E7E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lideshare.net/ecumene/population-9-intro-to-population-and-resources-presentation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e.youtube.com/watch?v=oYjqig8kXa4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hyperlink" Target="http://en.wikipedia.org/wiki/Simon-Ehrlich_wager" TargetMode="External"/><Relationship Id="rId4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oil-price.net/" TargetMode="External"/><Relationship Id="rId2" Type="http://schemas.openxmlformats.org/officeDocument/2006/relationships/hyperlink" Target="http://www.oil-price.net/" TargetMode="External"/><Relationship Id="rId3" Type="http://schemas.openxmlformats.org/officeDocument/2006/relationships/hyperlink" Target="http://www.oil-price.net/" TargetMode="External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616572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PT has been adapted from: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lideshare.net/ecumene/population-9-intro-to-population-and-resources-presentation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Hot Air Balloon Debate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3716280"/>
            <a:ext cx="3527640" cy="3141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Starring, from left to rig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homas Malt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imon Jul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aul Erh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ster Bose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he Club of 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0244000">
            <a:off x="539640" y="4149360"/>
            <a:ext cx="576360" cy="576360"/>
          </a:xfrm>
          <a:prstGeom prst="star5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0244000">
            <a:off x="1619280" y="6281280"/>
            <a:ext cx="576360" cy="576360"/>
          </a:xfrm>
          <a:prstGeom prst="star5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20244000">
            <a:off x="3276720" y="5445000"/>
            <a:ext cx="576000" cy="576360"/>
          </a:xfrm>
          <a:prstGeom prst="star5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0244000">
            <a:off x="1476360" y="3789000"/>
            <a:ext cx="576360" cy="576360"/>
          </a:xfrm>
          <a:prstGeom prst="star5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0244000">
            <a:off x="611280" y="5516640"/>
            <a:ext cx="576000" cy="576360"/>
          </a:xfrm>
          <a:prstGeom prst="star5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0244000">
            <a:off x="3564000" y="4652640"/>
            <a:ext cx="576360" cy="576360"/>
          </a:xfrm>
          <a:prstGeom prst="star5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 1: Thomas Malth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omas Malth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766-1834. Born in 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ot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An essay on the Principle of population’.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shed in 17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ld pop. in 1798: 9 million peo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w: more than 6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Thomas Malthus"/>
          <p:cNvPicPr/>
          <p:nvPr/>
        </p:nvPicPr>
        <p:blipFill>
          <a:blip r:embed="rId1"/>
          <a:stretch/>
        </p:blipFill>
        <p:spPr>
          <a:xfrm>
            <a:off x="6781680" y="228600"/>
            <a:ext cx="2144880" cy="2811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400800" y="3200400"/>
            <a:ext cx="2176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920520" y="620280"/>
            <a:ext cx="76136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lthus recognised that population - if unchecked - grows at a geometric r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2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ever, food only increases at an arithmetic rate, as land is fi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  2   3   4   5   6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ref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2637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War, famine,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1995480"/>
          <a:ext cx="6858000" cy="40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95480"/>
                    <a:ext cx="6858000" cy="40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248520" y="3124080"/>
            <a:ext cx="1066680" cy="289080"/>
          </a:xfrm>
          <a:prstGeom prst="leftArrow">
            <a:avLst>
              <a:gd name="adj1" fmla="val 50000"/>
              <a:gd name="adj2" fmla="val 922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ore Principles of Malthu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560" y="1600200"/>
            <a:ext cx="8591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 is necessary for human ex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uman population grows faster than the power of the earth to produce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ffects of these two unequal powers must be kept eq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ce humans tend not to limit their population size voluntarily - “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preventive check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 are needed. (in Malthus’ terminolo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5392800"/>
            <a:ext cx="28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heck = to stop or slow the progress of some unwelcome process. to halt, to stop, to slow something d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Negative checks 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(decreased birth rate)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gative Checks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imit pop. growth by decreasing birth rate:  Examples: abstinence / delay of marri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Malthus favoured moral restraint as a check on population grow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owever, it is worth noting that Malthus proposed this only for the working and poor classe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Positive checks 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(increased death ra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Check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events which increase the death rate such as famine, disease, war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creasing the mortality rate and reducing life expect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s Malthus 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 There has been a population explo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 Demand for food is rising rapid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 Africa – repeated famines, wars, food crisis, environmental degradation, soil erosion, crop failure and disastrous floods – so was he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sting Pl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352680" cy="428652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515120" cy="323856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57200" y="5638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gladesh population density = 981 people/k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5334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an population density = 15.6 people/k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6172200"/>
            <a:ext cx="4495680" cy="380880"/>
          </a:xfrm>
          <a:custGeom>
            <a:avLst/>
            <a:gdLst>
              <a:gd name="textAreaLeft" fmla="*/ 24480 w 4495680"/>
              <a:gd name="textAreaRight" fmla="*/ 4471200 w 4495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4733" h="21600">
                <a:moveTo>
                  <a:pt x="0" y="0"/>
                </a:moveTo>
                <a:lnTo>
                  <a:pt x="254733" y="0"/>
                </a:lnTo>
                <a:lnTo>
                  <a:pt x="254733" y="21600"/>
                </a:lnTo>
                <a:lnTo>
                  <a:pt x="0" y="21600"/>
                </a:lnTo>
                <a:close/>
              </a:path>
              <a:path fill="lightenLess" w="254733" h="21600">
                <a:moveTo>
                  <a:pt x="0" y="0"/>
                </a:moveTo>
                <a:lnTo>
                  <a:pt x="254733" y="0"/>
                </a:lnTo>
                <a:lnTo>
                  <a:pt x="253333" y="1400"/>
                </a:lnTo>
                <a:lnTo>
                  <a:pt x="1400" y="1400"/>
                </a:lnTo>
                <a:close/>
              </a:path>
              <a:path fill="darken" w="254733" h="21600">
                <a:moveTo>
                  <a:pt x="254733" y="0"/>
                </a:moveTo>
                <a:lnTo>
                  <a:pt x="254733" y="21600"/>
                </a:lnTo>
                <a:lnTo>
                  <a:pt x="253333" y="20200"/>
                </a:lnTo>
                <a:lnTo>
                  <a:pt x="253333" y="1400"/>
                </a:lnTo>
                <a:close/>
              </a:path>
              <a:path fill="darkenLess" w="254733" h="21600">
                <a:moveTo>
                  <a:pt x="2547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333" y="20200"/>
                </a:lnTo>
                <a:close/>
              </a:path>
              <a:path fill="lighten" w="2547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one is over popula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t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ological improvements which he could not have fore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farmland due to irrigation &amp; better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d population growth as countries move through the D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5942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6095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emographic transition model (DTM) is a model used to represent the transition from high birth and death rates to low birth and death rates as a country develops from a pre-industrial to an industrialized economic system. The theory was developed in 1929 by the American demographer Warren Thomps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'J' Curve - Population Crash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'J' Curve - Population Crash Model"/>
          <p:cNvPicPr/>
          <p:nvPr/>
        </p:nvPicPr>
        <p:blipFill>
          <a:blip r:embed="rId1"/>
          <a:stretch/>
        </p:blipFill>
        <p:spPr>
          <a:xfrm>
            <a:off x="152280" y="1671480"/>
            <a:ext cx="6019920" cy="4853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00800" y="5257800"/>
            <a:ext cx="2438280" cy="1219320"/>
          </a:xfrm>
          <a:custGeom>
            <a:avLst/>
            <a:gdLst>
              <a:gd name="textAreaLeft" fmla="*/ 78840 w 2438280"/>
              <a:gd name="textAreaRight" fmla="*/ 2359440 w 24382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do famine etc. f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1143000"/>
            <a:ext cx="2590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follows the ideas of Malthus:  population rapidly expands, reaching the carrying capacity of the land. As the population exceeds this, famine and disease play havoc with the population and it cras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' Curve - Stabilisati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2780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is follows ideas of the demographic transition model over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ow base population is followed by a rapidly expanding one that finally stabilizes at a new high population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Increasing population, leveling out at top"/>
          <p:cNvPicPr/>
          <p:nvPr/>
        </p:nvPicPr>
        <p:blipFill>
          <a:blip r:embed="rId1"/>
          <a:stretch/>
        </p:blipFill>
        <p:spPr>
          <a:xfrm>
            <a:off x="3276720" y="1752480"/>
            <a:ext cx="52768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 2: Club of 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Club of 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of industrialists, scientists, economists and statesmen from 10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shed 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‘The Limits to Growth’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19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ttp://clubofrome.at/events/2006/valencia/valencia_en/images/logo_cor.gif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3105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Cover first edition Limits to growth.jpg"/>
          <p:cNvPicPr/>
          <p:nvPr/>
        </p:nvPicPr>
        <p:blipFill>
          <a:blip r:embed="rId2"/>
          <a:stretch/>
        </p:blipFill>
        <p:spPr>
          <a:xfrm>
            <a:off x="6019920" y="3200400"/>
            <a:ext cx="2468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lub of 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45820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Club of Rome – basic conclusion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present growth trends in world population continue and if associated industrialisation, pollution, food production and resource depletion continue unchanged,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he limits to growth on this planet will be reached sometime in the next 100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st probable result will be sudden and uncontrollable decline in both population and industrial capac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Malthus and the Club of Rome – are they right?</a:t>
            </a: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What evidence is there to support their ide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ory 3: Ester Boser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sting Pl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286160" cy="285732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228600" y="2971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sterdam (the Netherlands, population density = 397 people/k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44956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tta (India, population density = 330 people/k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320" y="3733920"/>
            <a:ext cx="4343400" cy="289404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4800600" y="6172200"/>
            <a:ext cx="4114800" cy="380880"/>
          </a:xfrm>
          <a:custGeom>
            <a:avLst/>
            <a:gdLst>
              <a:gd name="textAreaLeft" fmla="*/ 24480 w 4114800"/>
              <a:gd name="textAreaRight" fmla="*/ 4090320 w 4114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54" h="21600">
                <a:moveTo>
                  <a:pt x="0" y="0"/>
                </a:moveTo>
                <a:lnTo>
                  <a:pt x="233154" y="0"/>
                </a:lnTo>
                <a:lnTo>
                  <a:pt x="233154" y="21600"/>
                </a:lnTo>
                <a:lnTo>
                  <a:pt x="0" y="21600"/>
                </a:lnTo>
                <a:close/>
              </a:path>
              <a:path fill="lightenLess" w="233154" h="21600">
                <a:moveTo>
                  <a:pt x="0" y="0"/>
                </a:moveTo>
                <a:lnTo>
                  <a:pt x="233154" y="0"/>
                </a:lnTo>
                <a:lnTo>
                  <a:pt x="231754" y="1400"/>
                </a:lnTo>
                <a:lnTo>
                  <a:pt x="1400" y="1400"/>
                </a:lnTo>
                <a:close/>
              </a:path>
              <a:path fill="darken" w="233154" h="21600">
                <a:moveTo>
                  <a:pt x="233154" y="0"/>
                </a:moveTo>
                <a:lnTo>
                  <a:pt x="233154" y="21600"/>
                </a:lnTo>
                <a:lnTo>
                  <a:pt x="231754" y="20200"/>
                </a:lnTo>
                <a:lnTo>
                  <a:pt x="231754" y="1400"/>
                </a:lnTo>
                <a:close/>
              </a:path>
              <a:path fill="darkenLess" w="233154" h="21600">
                <a:moveTo>
                  <a:pt x="233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754" y="20200"/>
                </a:lnTo>
                <a:close/>
              </a:path>
              <a:path fill="lighten" w="233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one is over popula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ster Boserup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serup believed that people hav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ources of knowledge and technology and tha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necessity is the mother of invention”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us as populations grow towards the carrying capacity,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eo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elop new ways to use resources (food) more productive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think of real life exam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2920" y="4267080"/>
            <a:ext cx="17110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us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mographic pressure (population density) promotes innovation and higher productivity in use of land (irrigation, weeding, crop intensification, better seeds) and labour (tools, better technique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973080"/>
            <a:ext cx="8713800" cy="5540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0880" y="4572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se view on population growth is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914400"/>
            <a:ext cx="4495680" cy="30481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Ester Boser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981000"/>
            <a:ext cx="8588160" cy="5600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880" y="4572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se view on population growth is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914400"/>
            <a:ext cx="4495680" cy="30481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lt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s Boserup 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38080" y="297144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bout resource degradation and pollution?  Can we continue to innovate to overcome these iss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ebate goes on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 4: Paul Ehrl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42942" t="17696" r="45112" b="54381"/>
          <a:stretch/>
        </p:blipFill>
        <p:spPr>
          <a:xfrm>
            <a:off x="3635280" y="3357720"/>
            <a:ext cx="2219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hrl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ul Ehrlich, a Stanford University biologist, wrote his book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he Population Bom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196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it he warned of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doom and gloo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resource depletion,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ecies extinc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a human population so large that as a species we would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ace mass poverty, famine, starvation and dea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ording to Ehrlich, the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Earth had reached its carrying capacity long ag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we were living on borrowed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6732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 5: Julian Si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53048" t="55917" r="35003" b="15688"/>
          <a:stretch/>
        </p:blipFill>
        <p:spPr>
          <a:xfrm>
            <a:off x="3635280" y="3357720"/>
            <a:ext cx="20192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lian Simon, a University of Maryland economist, has written several books on population most famously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he Ultimate Resour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on thought that all of the doom and gloom of Ehrlich was nothing but nonsense.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He claimed that resources are infinite </a:t>
            </a:r>
            <a:r>
              <a:rPr b="0" lang="en-GB" sz="2800" spc="-1" strike="noStrike">
                <a:solidFill>
                  <a:srgbClr val="009999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human beings will never run out of them for whatever purpose they decide to use them f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sentially, Simon considered humans to be the “ultimate resour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File:Symbol thumbs up.svg"/>
          <p:cNvPicPr/>
          <p:nvPr/>
        </p:nvPicPr>
        <p:blipFill>
          <a:blip r:embed="rId1"/>
          <a:stretch/>
        </p:blipFill>
        <p:spPr>
          <a:xfrm>
            <a:off x="5410080" y="304920"/>
            <a:ext cx="8524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es this clip tell us about the relationship (conflict) between people and resou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"/>
          </p:cNvPr>
          <p:cNvSpPr/>
          <p:nvPr/>
        </p:nvSpPr>
        <p:spPr>
          <a:xfrm>
            <a:off x="2057400" y="2666880"/>
            <a:ext cx="4952880" cy="3048120"/>
          </a:xfrm>
          <a:custGeom>
            <a:avLst/>
            <a:gdLst>
              <a:gd name="textAreaLeft" fmla="*/ 197280 w 4952880"/>
              <a:gd name="textAreaRight" fmla="*/ 4755600 w 4952880"/>
              <a:gd name="textAreaTop" fmla="*/ 197280 h 3048120"/>
              <a:gd name="textAreaBottom" fmla="*/ 2850840 h 3048120"/>
            </a:gdLst>
            <a:ahLst/>
            <a:rect l="textAreaLeft" t="textAreaTop" r="textAreaRight" b="textAreaBottom"/>
            <a:pathLst>
              <a:path w="35096" h="21600">
                <a:moveTo>
                  <a:pt x="0" y="0"/>
                </a:moveTo>
                <a:lnTo>
                  <a:pt x="35096" y="0"/>
                </a:lnTo>
                <a:lnTo>
                  <a:pt x="35096" y="21600"/>
                </a:lnTo>
                <a:lnTo>
                  <a:pt x="0" y="21600"/>
                </a:lnTo>
                <a:close/>
              </a:path>
              <a:path fill="lightenLess" w="35096" h="21600">
                <a:moveTo>
                  <a:pt x="0" y="0"/>
                </a:moveTo>
                <a:lnTo>
                  <a:pt x="35096" y="0"/>
                </a:lnTo>
                <a:lnTo>
                  <a:pt x="33696" y="1400"/>
                </a:lnTo>
                <a:lnTo>
                  <a:pt x="1400" y="1400"/>
                </a:lnTo>
                <a:close/>
              </a:path>
              <a:path fill="darken" w="35096" h="21600">
                <a:moveTo>
                  <a:pt x="35096" y="0"/>
                </a:moveTo>
                <a:lnTo>
                  <a:pt x="35096" y="21600"/>
                </a:lnTo>
                <a:lnTo>
                  <a:pt x="33696" y="20200"/>
                </a:lnTo>
                <a:lnTo>
                  <a:pt x="33696" y="1400"/>
                </a:lnTo>
                <a:close/>
              </a:path>
              <a:path fill="darkenLess" w="35096" h="21600">
                <a:moveTo>
                  <a:pt x="35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6" y="20200"/>
                </a:lnTo>
                <a:close/>
              </a:path>
              <a:path fill="lighten" w="35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96" h="21600">
                <a:moveTo>
                  <a:pt x="10542" y="7301"/>
                </a:moveTo>
                <a:lnTo>
                  <a:pt x="11455" y="7301"/>
                </a:lnTo>
                <a:lnTo>
                  <a:pt x="11838" y="7667"/>
                </a:lnTo>
                <a:lnTo>
                  <a:pt x="21047" y="7667"/>
                </a:lnTo>
                <a:lnTo>
                  <a:pt x="21604" y="8224"/>
                </a:lnTo>
                <a:lnTo>
                  <a:pt x="21604" y="8772"/>
                </a:lnTo>
                <a:lnTo>
                  <a:pt x="23449" y="8772"/>
                </a:lnTo>
                <a:lnTo>
                  <a:pt x="23815" y="8224"/>
                </a:lnTo>
                <a:lnTo>
                  <a:pt x="24555" y="8224"/>
                </a:lnTo>
                <a:lnTo>
                  <a:pt x="24555" y="13376"/>
                </a:lnTo>
                <a:lnTo>
                  <a:pt x="23815" y="13376"/>
                </a:lnTo>
                <a:lnTo>
                  <a:pt x="23449" y="12828"/>
                </a:lnTo>
                <a:lnTo>
                  <a:pt x="21604" y="12828"/>
                </a:lnTo>
                <a:lnTo>
                  <a:pt x="21604" y="14107"/>
                </a:lnTo>
                <a:lnTo>
                  <a:pt x="12021" y="14107"/>
                </a:lnTo>
                <a:lnTo>
                  <a:pt x="12021" y="9877"/>
                </a:lnTo>
                <a:lnTo>
                  <a:pt x="11838" y="9877"/>
                </a:lnTo>
                <a:lnTo>
                  <a:pt x="11455" y="10243"/>
                </a:lnTo>
                <a:lnTo>
                  <a:pt x="10542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29471" t="14290" r="30345" b="15688"/>
          <a:stretch/>
        </p:blipFill>
        <p:spPr>
          <a:xfrm>
            <a:off x="1523880" y="0"/>
            <a:ext cx="629928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890640" cy="115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 rot="10980000">
            <a:off x="7885080" y="5516280"/>
            <a:ext cx="890640" cy="1152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1989000"/>
            <a:ext cx="1512720" cy="1986120"/>
          </a:xfrm>
          <a:prstGeom prst="borderCallout1">
            <a:avLst>
              <a:gd name="adj1" fmla="val 18750"/>
              <a:gd name="adj2" fmla="val -8333"/>
              <a:gd name="adj3" fmla="val -41805"/>
              <a:gd name="adj4" fmla="val 1241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umbs down only means that these are the Neo Malthusians, does not mean the theory is thumbs down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96360" y="3068640"/>
            <a:ext cx="1512720" cy="1986120"/>
          </a:xfrm>
          <a:prstGeom prst="borderCallout1">
            <a:avLst>
              <a:gd name="adj1" fmla="val 18750"/>
              <a:gd name="adj2" fmla="val -8333"/>
              <a:gd name="adj3" fmla="val 163787"/>
              <a:gd name="adj4" fmla="val -10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umbs up only means that these are the Optimists, does not mean the theory is thumbs up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Hot Air Balloon Debate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File:Symbol thumbs up.svg"/>
          <p:cNvPicPr/>
          <p:nvPr/>
        </p:nvPicPr>
        <p:blipFill>
          <a:blip r:embed="rId2"/>
          <a:stretch/>
        </p:blipFill>
        <p:spPr>
          <a:xfrm>
            <a:off x="3635280" y="2492280"/>
            <a:ext cx="852480" cy="1103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File:Symbol thumbs up.svg"/>
          <p:cNvPicPr/>
          <p:nvPr/>
        </p:nvPicPr>
        <p:blipFill>
          <a:blip r:embed="rId3"/>
          <a:stretch/>
        </p:blipFill>
        <p:spPr>
          <a:xfrm>
            <a:off x="5796000" y="3284640"/>
            <a:ext cx="852480" cy="1103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File:Symbol thumbs up.svg"/>
          <p:cNvPicPr/>
          <p:nvPr/>
        </p:nvPicPr>
        <p:blipFill>
          <a:blip r:embed="rId4"/>
          <a:stretch/>
        </p:blipFill>
        <p:spPr>
          <a:xfrm>
            <a:off x="4643280" y="1700280"/>
            <a:ext cx="852480" cy="1103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File:Symbol thumbs up.svg"/>
          <p:cNvPicPr/>
          <p:nvPr/>
        </p:nvPicPr>
        <p:blipFill>
          <a:blip r:embed="rId5"/>
          <a:stretch/>
        </p:blipFill>
        <p:spPr>
          <a:xfrm>
            <a:off x="2556000" y="1125360"/>
            <a:ext cx="852480" cy="1103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File:Symbol thumbs up.svg"/>
          <p:cNvPicPr/>
          <p:nvPr/>
        </p:nvPicPr>
        <p:blipFill>
          <a:blip r:embed="rId6"/>
          <a:stretch/>
        </p:blipFill>
        <p:spPr>
          <a:xfrm>
            <a:off x="6877080" y="2781360"/>
            <a:ext cx="852480" cy="1103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95640" y="260280"/>
            <a:ext cx="460836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’s who, and are they         or        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File:Symbol thumbs up.svg"/>
          <p:cNvPicPr/>
          <p:nvPr/>
        </p:nvPicPr>
        <p:blipFill>
          <a:blip r:embed="rId7"/>
          <a:stretch/>
        </p:blipFill>
        <p:spPr>
          <a:xfrm>
            <a:off x="5079960" y="333360"/>
            <a:ext cx="428760" cy="554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File:Symbol thumbs up.svg"/>
          <p:cNvPicPr/>
          <p:nvPr/>
        </p:nvPicPr>
        <p:blipFill>
          <a:blip r:embed="rId8"/>
          <a:stretch/>
        </p:blipFill>
        <p:spPr>
          <a:xfrm>
            <a:off x="5867280" y="333360"/>
            <a:ext cx="428760" cy="554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24000" y="3573360"/>
            <a:ext cx="20890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Neo) Malthu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“Optimis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File:Symbol thumbs up.svg"/>
          <p:cNvPicPr/>
          <p:nvPr/>
        </p:nvPicPr>
        <p:blipFill>
          <a:blip r:embed="rId9"/>
          <a:stretch/>
        </p:blipFill>
        <p:spPr>
          <a:xfrm>
            <a:off x="1187280" y="4869000"/>
            <a:ext cx="428760" cy="5540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File:Symbol thumbs up.svg"/>
          <p:cNvPicPr/>
          <p:nvPr/>
        </p:nvPicPr>
        <p:blipFill>
          <a:blip r:embed="rId10"/>
          <a:stretch/>
        </p:blipFill>
        <p:spPr>
          <a:xfrm>
            <a:off x="1187280" y="3573360"/>
            <a:ext cx="4287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84360" y="4653000"/>
            <a:ext cx="4032360" cy="2016000"/>
          </a:xfrm>
          <a:prstGeom prst="rect">
            <a:avLst/>
          </a:prstGeom>
          <a:solidFill>
            <a:srgbClr val="bbe0e3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hrlich         predicted that the prices of resources should increase.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on        countered Ehrlich's saying that in fact the price of resources would decrease over time.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File:Symbol thumbs up.svg"/>
          <p:cNvPicPr/>
          <p:nvPr/>
        </p:nvPicPr>
        <p:blipFill>
          <a:blip r:embed="rId1"/>
          <a:stretch/>
        </p:blipFill>
        <p:spPr>
          <a:xfrm>
            <a:off x="1828800" y="2971800"/>
            <a:ext cx="617400" cy="798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514600" y="1143000"/>
            <a:ext cx="673200" cy="871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rcRect l="42942" t="17696" r="45112" b="54381"/>
          <a:stretch/>
        </p:blipFill>
        <p:spPr>
          <a:xfrm>
            <a:off x="2771640" y="4869000"/>
            <a:ext cx="1084320" cy="1584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rcRect l="53048" t="55917" r="35003" b="15688"/>
          <a:stretch/>
        </p:blipFill>
        <p:spPr>
          <a:xfrm>
            <a:off x="5219640" y="4869000"/>
            <a:ext cx="11160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1980, Simon       offered Ehrlich        a bet. Ehrlich could choose any five raw materials he wanted. Simon sold Ehrlich an option to buy an amount of each raw material worth $200 in 1980 doll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prices increased over the next ten years, Simon would pay Ehrlich; however, if the prices decreased over the same time period, Ehrlich would have to pay Sim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File:Symbol thumbs up.svg"/>
          <p:cNvPicPr/>
          <p:nvPr/>
        </p:nvPicPr>
        <p:blipFill>
          <a:blip r:embed="rId1"/>
          <a:stretch/>
        </p:blipFill>
        <p:spPr>
          <a:xfrm>
            <a:off x="3352680" y="0"/>
            <a:ext cx="617760" cy="798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781680" y="42840"/>
            <a:ext cx="6732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990360" y="76176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hrlich      chose five metals: copper, chrome, nickel, tin and tungsten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9880" y="609480"/>
            <a:ext cx="6732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761760" y="2819160"/>
            <a:ext cx="79246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The bet was on….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4920" y="190512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Ten years later, after adjusting for inflation, the prices of all five metals…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went down 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hrlich     had lost. 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He sent Simon    a cheque and nothing else. 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imon offered to bet again and up the ante to $20,000; Ehrlich declined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File:Symbol thumbs up.svg"/>
          <p:cNvPicPr/>
          <p:nvPr/>
        </p:nvPicPr>
        <p:blipFill>
          <a:blip r:embed="rId1"/>
          <a:stretch/>
        </p:blipFill>
        <p:spPr>
          <a:xfrm>
            <a:off x="4952880" y="1143000"/>
            <a:ext cx="617760" cy="798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038480" y="228600"/>
            <a:ext cx="673200" cy="871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66560" y="6237360"/>
            <a:ext cx="82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teresting further reading: </a:t>
            </a: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Simon-Ehrlich_wage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t's apply Simon's      logic to another commodity, petroleum. In 1980 the price of a barrel of sweet crude oil was approximately $32. By 1990, the price had fallen to $20 per barrel. According to Simon’s logic this would mean that we have more oil than we had before and that we weren't running out of oil.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s this the case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File:Symbol thumbs up.svg"/>
          <p:cNvPicPr/>
          <p:nvPr/>
        </p:nvPicPr>
        <p:blipFill>
          <a:blip r:embed="rId1"/>
          <a:stretch/>
        </p:blipFill>
        <p:spPr>
          <a:xfrm>
            <a:off x="4648320" y="380880"/>
            <a:ext cx="61740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ver-popula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when there are too many people and not enough resources to provide a high standard of living at a given level of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der-popula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when there are not enough people to fully exploit the available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timum 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hen the population of a country is fully utilizing its available resources and technology to provide the highest standard of living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rrying capa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number of people that can be supported by the available resources within a particular area without the long-term depletion of those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525600"/>
            <a:ext cx="8640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Graph showing the five times that major oil price shocks disrupted world energy markets. For more detailed information, see the table below.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987640" y="602064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oil-price.net</a:t>
            </a: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260280"/>
            <a:ext cx="82072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ntinu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16002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3886200"/>
            <a:ext cx="80773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4343400"/>
            <a:ext cx="6629400" cy="1381680"/>
          </a:xfrm>
          <a:prstGeom prst="rect">
            <a:avLst/>
          </a:prstGeom>
          <a:solidFill>
            <a:srgbClr val="99cc00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ow would population management strategies between these two extreme perspectives v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at type of compromises might ex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219320"/>
            <a:ext cx="3657600" cy="2057400"/>
          </a:xfrm>
          <a:prstGeom prst="wedgeRectCallout">
            <a:avLst>
              <a:gd name="adj1" fmla="val -47046"/>
              <a:gd name="adj2" fmla="val 75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-centric Deep Ecologists (Doomste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lieve that rapid population growth and increased levels of development have led to a situation where there are insufficient resources and too much waste and pollu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1143000"/>
            <a:ext cx="3962520" cy="1981080"/>
          </a:xfrm>
          <a:prstGeom prst="wedgeRectCallout">
            <a:avLst>
              <a:gd name="adj1" fmla="val 34092"/>
              <a:gd name="adj2" fmla="val 8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-centric Cornucopians (Boomste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mpion the ability of humans to innovate, develop and adapt, as the solution to the issues associated with population growth, resource consumption and was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File:Symbol thumbs up.svg"/>
          <p:cNvPicPr/>
          <p:nvPr/>
        </p:nvPicPr>
        <p:blipFill>
          <a:blip r:embed="rId1"/>
          <a:stretch/>
        </p:blipFill>
        <p:spPr>
          <a:xfrm>
            <a:off x="7315200" y="228600"/>
            <a:ext cx="617400" cy="798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File:Symbol thumbs up.svg"/>
          <p:cNvPicPr/>
          <p:nvPr/>
        </p:nvPicPr>
        <p:blipFill>
          <a:blip r:embed="rId2"/>
          <a:stretch/>
        </p:blipFill>
        <p:spPr>
          <a:xfrm>
            <a:off x="1523880" y="268200"/>
            <a:ext cx="61776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ntinu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6002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3886200"/>
            <a:ext cx="80773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4343400"/>
            <a:ext cx="8351640" cy="1572120"/>
          </a:xfrm>
          <a:prstGeom prst="rect">
            <a:avLst/>
          </a:prstGeom>
          <a:solidFill>
            <a:srgbClr val="99cc00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 do you stand, and why do you take that posi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re you (Neo)Malthusian or an Optim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Justify your 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219320"/>
            <a:ext cx="3657600" cy="2057400"/>
          </a:xfrm>
          <a:prstGeom prst="wedgeRectCallout">
            <a:avLst>
              <a:gd name="adj1" fmla="val -47046"/>
              <a:gd name="adj2" fmla="val 75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-centric Deep Ecologists (Doomste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lieve that rapid population growth and increased levels of development have led to a situation where there are insufficient resources and too much waste and pollu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52880" y="1143000"/>
            <a:ext cx="3962520" cy="1981080"/>
          </a:xfrm>
          <a:prstGeom prst="wedgeRectCallout">
            <a:avLst>
              <a:gd name="adj1" fmla="val 34092"/>
              <a:gd name="adj2" fmla="val 8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-centric Cornucopians (Boomste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mpion the ability of humans to innovate, develop and adapt, as the solution to the issues associated with population growth, resource consumption and was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File:Symbol thumbs up.svg"/>
          <p:cNvPicPr/>
          <p:nvPr/>
        </p:nvPicPr>
        <p:blipFill>
          <a:blip r:embed="rId1"/>
          <a:stretch/>
        </p:blipFill>
        <p:spPr>
          <a:xfrm>
            <a:off x="7315200" y="228600"/>
            <a:ext cx="617400" cy="798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File:Symbol thumbs up.svg"/>
          <p:cNvPicPr/>
          <p:nvPr/>
        </p:nvPicPr>
        <p:blipFill>
          <a:blip r:embed="rId2"/>
          <a:stretch/>
        </p:blipFill>
        <p:spPr>
          <a:xfrm>
            <a:off x="1523880" y="268200"/>
            <a:ext cx="61776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ources - Key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atural resource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nvironmental: mineral and fossil resources. (i.e.: iron, o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Human resource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ultural, economic, technologic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on-renewable resource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inite natural resources (oil, coal, gas), capital (machinery, equip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Renewable resource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n-finite natural resources: hydro power, wind, sol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Reserve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any countries hold “emergency” reserves of finite resources (oil, grain, g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564012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320" y="1523880"/>
            <a:ext cx="8839080" cy="4767480"/>
          </a:xfrm>
          <a:prstGeom prst="rect">
            <a:avLst/>
          </a:prstGeom>
          <a:ln w="19080">
            <a:solidFill>
              <a:srgbClr val="99cc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2971800" y="457200"/>
            <a:ext cx="3505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01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Theories on the relationship between population and resou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2:18:44Z</dcterms:created>
  <dc:creator>Vanweringh</dc:creator>
  <dc:description/>
  <dc:language>en-US</dc:language>
  <cp:lastModifiedBy>Vanweringh</cp:lastModifiedBy>
  <dcterms:modified xsi:type="dcterms:W3CDTF">2010-05-28T14:30:05Z</dcterms:modified>
  <cp:revision>41</cp:revision>
  <dc:subject/>
  <dc:title>Population and Resources</dc:title>
</cp:coreProperties>
</file>